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D9B-253B-49F4-87D4-207C2007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75C-042C-46A8-AE47-F39730EF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F34-8808-430F-BADE-D2E84D96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F9C-C3AD-47CB-99B9-47B6CE51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58C-6218-47F0-9945-EC4B715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FB4-8879-4F0F-B4E2-D36A38BE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F38-85AD-4F48-9573-F42FF5E2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718-A827-4ABA-A034-5728A034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8B6-1925-4CA0-BCDB-FB490B2C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ECB-D610-4C49-821F-0DC9EEB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94C-2E7C-42DC-A497-8BD38BF2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A65-9FC1-464A-B0E4-12732ED6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0E5-0C94-4FBB-997F-9AEB90587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richard-seaman.com/Travel/Mexico/Teotihuacan/PyramidOfTheMoonFromPyramidOfTheSun.jpg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5000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All about the Incas Mayas and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57800" y="55627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oper Black"/>
              </a:rPr>
              <a:t>By:  Jacob Pin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40120"/>
            <a:ext cx="1905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. wikipedia 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40480" y="4723920"/>
            <a:ext cx="22122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u –history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828800" y="4114800"/>
            <a:ext cx="3733920" cy="225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3080" y="6400440"/>
            <a:ext cx="23007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tec –Indians 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haron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Semibold"/>
              </a:rPr>
              <a:t>The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7467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capital wa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Polytheistic {believed in many god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had no written language but had spoken language (used knots as mess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Practiced animal sacrifice and on special occasions human sacrifice (child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80 - Machu Picchu - Juin 2009 - edit.2.jpg"/>
          <p:cNvPicPr/>
          <p:nvPr/>
        </p:nvPicPr>
        <p:blipFill>
          <a:blip r:embed="rId2"/>
          <a:stretch/>
        </p:blipFill>
        <p:spPr>
          <a:xfrm>
            <a:off x="380880" y="3276720"/>
            <a:ext cx="2895840" cy="282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951800" y="649116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Inca_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46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egoe UI Semibol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Semibold"/>
              </a:rPr>
              <a:t>South America, Andes., P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16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ttp;//en. Wikispaces. Org /wiki/ Inca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1-Aztec_Empire_Map.png"/>
          <p:cNvPicPr/>
          <p:nvPr/>
        </p:nvPicPr>
        <p:blipFill>
          <a:blip r:embed="rId1"/>
          <a:stretch/>
        </p:blipFill>
        <p:spPr>
          <a:xfrm>
            <a:off x="5943600" y="3276720"/>
            <a:ext cx="2819520" cy="248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457200" y="3581280"/>
            <a:ext cx="3809880" cy="2581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The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entral Mexico- Valley of Mex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apital Tenochtit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Polytheistic {believed in many god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Controlled many other tribes, forced them to give them money and “tribut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Used other tribes as slaves and human sacrifice (impor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Aztecs brought down by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2632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 Richard-seaman com/Travel /Mexico/Teotihuacán /Pyramid Of The  Moon From Pyramid Of The Sun .jpg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744160"/>
            <a:ext cx="40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eee.uci.edu/programs/humcore/images/Conquest/1-Aztec_Empire_Map.pn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079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taneo BT"/>
              </a:rPr>
              <a:t>The 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733920" cy="2378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447920"/>
            <a:ext cx="45626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an coast- Yucatan Penins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 just one major city- was much harder for conquistadors to over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 did not contain much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heist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slaves, who could sometimes gain there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294300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Cortez and the 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620120" y="4419720"/>
            <a:ext cx="1333440" cy="1780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Brought together 500 men and 16 horses to conquer the Aztec empire in their capital Tenochtitlan in 1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Some of the Incas and the Mayas helped him because they were tired of there people being held as sacrif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 capital was unusual because it was build in the middle of a lake on a large series of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Aztecs were shocked to see the horses and the men ( they have never seen horses befo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s thought the men riding on the horses thinking they were one magical b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Aztecs welcomed Cortez thinking he was the god Quetzalcoatl a pale skinned man that promised to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Cortez held Montezuma ( there leader) hostage and gave a ransom and he was killed in the war that 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 Spanish were driven away but came back to concur the Aztecs in 15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 Demi"/>
              </a:rPr>
              <a:t>They destroyed the capital and build a new tow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64680" y="6323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ck rive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5160" y="6171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ergris aye 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160956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504960" cy="2625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izarro and the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panish explorer and Conquis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tormed in the Inca empire with 180 solders and 27 h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s were very easily taken over in 1531 because of the civil war going on at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 civilization held over 20 millio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Very powerful and organized government that built roads and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Incan empire held captured and killed after they gave the rans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The Incas used gold and silver as dec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" y="617148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is cover Mac hupicchu 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85080" y="632376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ville8.pbwork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33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How Pizzaro and Cortez change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4" marL="2032560" indent="0" algn="ct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majorities of they land the native groups settled now are Christian and no longer worship the native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the Aztecs Incas and Mayas sort of disappeared for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45640" y="3048120"/>
            <a:ext cx="76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Today 2011-2012 most of South and Central America speaks 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8720" y="6536880"/>
            <a:ext cx="12841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5:17Z</dcterms:created>
  <dc:creator>jklib</dc:creator>
  <dc:description/>
  <dc:language>en-US</dc:language>
  <cp:lastModifiedBy>jklib</cp:lastModifiedBy>
  <dcterms:modified xsi:type="dcterms:W3CDTF">2011-11-28T16:01:47Z</dcterms:modified>
  <cp:revision>5</cp:revision>
  <dc:subject/>
  <dc:title>All about the Incas Mayas and Aztecs</dc:title>
</cp:coreProperties>
</file>